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6C2-DD4C-4291-98BB-2337768B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524-3954-465E-9FC7-9BB9F1C9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594-51CA-45DC-8CD3-894FEDD0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F43-B12A-4FE7-82C7-A5E77A3B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44D-073F-4985-BBBB-88D9C7B4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507-F20E-4DE9-B306-2001B1A8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18A-8454-4754-954A-C1577287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1E9-73BC-467F-946B-4B43F513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831-C06A-4324-B669-D9FFBD46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311-FB3E-4AAA-AF92-9C9B28F1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614-6605-456B-88D2-E5CD1A6B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A5D-5A79-41D1-85A6-91AEC68B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EAC0-D2D8-487C-9A99-758A97162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nologia Nacional para o Monitoramento Hidrológico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sília, __ de setembro de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465300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ção: Câmara Técnica de Ciência e Tecnologia - CN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29416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oio: ANA, SRH, MCT/CT-Hidro, 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7120" y="2349360"/>
            <a:ext cx="80485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 o estado-da-arte em desenvolvimento de tecnologias nacionais para o monitoramento hidrológico (aspectos quantitativos e qualitativo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scutir a universalização destas tecnologias para fins de eficiência do processo de gestão de recursos hídricos;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scutir e propor orientações para uma política de nacionalização tecnológica para o monitoramento hidrológico, a partir do estímulo ao desenvolvimento científico e a inversão do gasto público priorizando tecnologias nacion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idados (listagem prelimina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7120" y="1916280"/>
            <a:ext cx="804852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PR/LACTE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NIFE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RJ/COP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RGS/IP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J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/P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PT, IP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as instituições de pesquisa e desenvolvimento em tecnologias de monitoramento hidrológ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ção preli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7120" y="765000"/>
            <a:ext cx="8048520" cy="61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09:00 – Abertu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09:15 – Apresentação 1: desenvolvimento C&amp;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09:45 – Apresentação 2: desenvolvimento C&amp;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0:15 – Apresentação 3: desenvolvimento C&amp;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0:45 – 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1:00 – Apresentação 4: demandas de monitoramento hidrológico no Brasil e potencialidades p/ a nacional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1:30 – Apresentação 5: estado da arte em tecnologias de monitoramento e gap tecnoló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2:00 – Sessão de interação: dúvidas e questionament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2:30 – Almo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4:00 - Mesa redonda: MDIC, MCT, BNDES, FINEP. Título: “Potencialidades e obstáculos para a nacionalização tecnológica no monitoramento hidrológico”. Discussão aberta, com relatoria. Pergunta-chave: quais seriam os elementos de políticas públicas que poderiam alavancar o processo de produção nacional para fins de monitoramento hidrológico (agentes, fundos, instrumentos, etc.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6:00 - Encerr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1:48:53Z</dcterms:created>
  <dc:creator>eco</dc:creator>
  <dc:description/>
  <dc:language>en-US</dc:language>
  <cp:lastModifiedBy>eco</cp:lastModifiedBy>
  <dcterms:modified xsi:type="dcterms:W3CDTF">2007-05-17T02:33:44Z</dcterms:modified>
  <cp:revision>7</cp:revision>
  <dc:subject/>
  <dc:title>Workshop Tecnologia Nacional para o Monitoramento Hidrológico  Brasília, </dc:title>
</cp:coreProperties>
</file>